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6A8-9516-4796-96E7-F0A00D01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962-20C7-4195-85D3-204DBE9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5513C-9F5F-4D27-A70A-8DAB1CF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CE49D-9321-4D9D-8A69-1315B693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5F8B8-669B-4CAA-91D9-67FF186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6D310-B267-4C9D-9F74-A8E38E9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32363-C617-46E3-86D5-4C7D773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B4B8D-171A-4E1E-98B3-9788B49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D59B-7A71-4867-8A0D-CBD037B9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7B797-4015-49DB-9FF8-1BEC68FD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17839-6044-4E50-82FD-DF3CF4DE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62F63-82F7-40D5-B4AF-CE055A79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2A0-BABE-4667-B17A-BF6631DF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4D024-EB6E-42F3-9790-5D435A03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8B2B-7D0C-44EE-8398-96C9292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2184B-6C5B-4FC8-BD9E-C37E93E9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4D0A1-CEBD-4702-B36F-135A1190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AF07A-F242-4799-A4DF-6D54608A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BEF7F-C36E-43B3-968C-F20D2D2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CF4C6-8500-453E-91D3-1336E5F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8705D-327C-4F38-BABE-C78AB65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8917F-9C84-4EB4-9102-2FFD394D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0AC84-81C6-4534-BE92-3F2C229C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943-7648-4C9D-A454-C8E65904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A0A63-4075-48E6-89D5-3D18AA42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3D97D-8D55-4BF0-80CA-DB1C6AF4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EBF6C-BE78-4864-85F7-044D7FB3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C700B-7E18-4514-AB2D-7AC2363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2CD0E-2022-441F-8B5C-35812D15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A2563-D192-44BC-8BC1-7E63CFE9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F62BA-B39B-4429-9684-FA0C6C93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451BD-D9D5-4B96-A10B-BBF5238C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E42E-872F-4C68-B901-F5133A2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3918E-3252-476C-AC3E-FE7571F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BB3D-29BB-4F49-A594-D429ED4A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C6B15-A7C4-4335-B960-78920F2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9958B-D35B-44F7-A0B0-BF0A78C9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F9221-685B-4B58-B56D-D7FCF4C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719E1-6361-4CB4-B409-07A84FF1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85E93-2AAC-4E5A-8C96-2C106FB9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4A1E7-D1C6-40B6-AECB-70C89502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B7E6A-2ACA-4838-B715-4FEAED5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080C8-374C-4237-A472-FCE25F42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D59BD-5D0D-4532-882B-8E7239B1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C5069-B08F-4D4D-9025-4204031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6492-BDB2-4C6E-BD76-2800BDA0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64FF8-0455-4A2C-9A2C-7FCAEB3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56315-2CA0-448B-8ED3-7DA40057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7107A-82C0-4CBA-AFDB-CB029006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5A3A3-504B-47AF-B4ED-F69B5533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224F4-E930-4458-8E8C-637B318E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7D8E0-3B4D-4045-8CCA-CC17A75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50B67-26BF-4FAD-8D48-B2EF22A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2A5D5-10AA-41E3-8F2E-6C7D5BF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59466-F912-4B74-B70F-5AC5C4B9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5B614-D4A9-481A-8AC5-6441A7ED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808-C40C-4F21-87D0-0E3FD0B6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73B04-3DFA-463F-894D-A632DD1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7F0D1-D1F1-4B5F-8552-593D6A3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43961-A0BA-4539-8116-739DCD3F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93C37-D7F2-48F1-8A6D-9F5F4AFA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E8EAA-F73D-403C-A3F2-E949EA9C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4AA42-FC67-41DB-8969-0495C2AE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C864B-688B-45C9-820C-31EFEB92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B9064-9738-4B40-964F-95FE7EE1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10F2C-DE5E-4ABB-97ED-2F68362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AE50F-80F6-4E07-84B1-6D60ECE0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B80-C766-4F2B-866D-57020C34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3147EE-1127-412E-9F94-40A1FCE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D2945-AB8A-4787-BA71-94538CE2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C5567-DA6E-41C1-8F8C-DFEA024B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D31A1-DD4A-4A5C-8641-BF84F8A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0664C-46F2-45F0-BD3B-D56AA59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8CDB9-E7E9-4CAB-A517-70E27C2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5E71F-1EBA-47F8-BCA0-58F0121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D7D66-BCC6-4157-903A-29DB2648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60B21-50BE-404A-9C0C-14B5EF05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B5526-44C8-4699-85A1-05C78B58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E9E6-9444-4C8C-AF7B-8D6F230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843B5-5C9B-4F72-9460-4BE37FB8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95418-FB77-4F44-B082-9F441F71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3F108-9E5A-4052-84DA-C8181374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7E816-8F11-4870-845C-CBDCF596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DB49C-F157-43CB-B216-68D231D4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368ABB-593B-4D7A-8973-D7EED649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05606-23A9-44CD-9C80-0ADFCD47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2A562-029E-46F2-98F0-67A352BB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CC0EB-329A-4320-829F-15D22179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11D47-B4B6-4247-905E-F123F0BC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6D37-29A5-495B-9BF7-264F3D86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96E12-6116-449E-BDC0-D400B866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0239D-19FE-4F0D-A395-44382A6B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06383-D691-4B7B-9F75-0A090F2D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CC8F2-693E-4041-9823-E0AFA03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037A2-67AC-4A2D-9CF6-94FFDFF0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14A65-BEE9-49F9-A1CE-8C411FFB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182C5-DD66-4C0F-B547-A45FFED9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74C7A-F836-425C-AD70-9D10ADB9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ABC3F-0FEA-46A5-A0B0-BB216D8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4A3E2-755F-46BE-A03D-31F2CF65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A189-6E0D-44B7-820F-1B808B27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2AF0C-AC9E-4301-9229-76382011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DEBF7-5F5C-4624-9101-5DAEE8B6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D4647-05E2-4293-81FE-84A995C0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50E15-0670-44D2-BD34-BE14D193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73871-A361-447E-8673-01CFCAA5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38B6E-E904-477A-BA91-A270350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4FDB2-83EC-4B8D-954D-46C363F4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6C677-2AEF-49CF-B943-6F838E2C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9C3FC-95F2-43AC-95D5-2511FEAF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9AEB1-9D00-426E-BAA7-D85F51B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B51-C7DE-4C9D-A04A-9646B06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E23A-34F2-4E8C-9DB2-D4030D5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17DEF-EA7B-44E8-AABB-726CAF6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C9D59-F814-49B0-9614-17337FF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B4BE0-C726-4053-80F3-31E38B8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533A3E-9648-4E46-85C6-F0B6E0D5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9B17D2-8399-4963-B613-EB8B6D43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F4CAE-F704-4781-81D6-0CFD6F10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F7D52-440F-47EA-82EB-7424FAE2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437A6-D210-4ED7-AF82-0888AEF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738D9-5A0F-416C-8218-1951B6F0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C9354-2DEC-424F-A4EF-5D299E9B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5165-E470-40D9-964C-4CEE06E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6C808-7D91-44B5-90DC-B247BF23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040F5-F2E8-4905-BB9F-B1A35CF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03401-81AF-4A4D-A7FF-BB6A446E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D044B-69B2-40E4-9F17-11C34A3F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91F73-9441-49FF-8DB4-7B4A95F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FA631-F3F7-4F3F-A191-B4D7906A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C68210-5B98-4C71-B52C-A844D60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25533-F7EB-4D3A-A229-0FDDC555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13D36-B3AF-4296-8F79-6C11EE54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CD895-DE45-441F-B6E3-33AB77C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22E2-A827-4DF9-A11C-71F9472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F0F2F-BAA1-47D2-ADB0-07857410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8D489-EFE3-4308-BDCA-FEAE8357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C7B9E-CC42-453A-BA80-7EFCABBA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B75E8-1FC4-4567-BA0B-2185B76B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4A2BD-129A-459C-BA7B-D0E99C3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E9B03-DCCA-4430-98BF-84B50A32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F719F-4DE4-4224-97D1-9C0A9BE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A5114-5C1C-49EA-9E3D-FFB0505A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A6E0F-BE64-414F-AE45-4A0F8CA2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16B48-4944-4575-BEFB-50E50E66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752F-11F6-4903-AFD6-DF3649FD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7B1E8-DDB8-43A0-BF36-C9024AE3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D749D-B47D-48D4-BE5B-400687B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EB423-F003-42B9-95FF-636E7AD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F781B-0ABC-471C-97B2-2344C516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5392F-7F60-4694-8653-DCEDB00A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6C177-5C4B-43AA-98B6-020D9433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E7EC7-5534-452F-BD16-A65C92D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FA04A-2932-4EDC-8C86-0C72634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146FAA-798C-40FC-86C7-324815FF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BDF002-754C-482B-9B31-77038E74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C51F-33F6-484B-B411-B1E8DE44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AE224-3C80-41FE-91CF-9A2D247E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9BC33-F5A0-49FB-9652-32FFC845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16589-FC45-4284-887C-1F9F846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74EC4-0DE2-45B4-84AD-3BCAEAD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5E32E-B4B5-46DC-8424-D688C4D1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F884ED-5AB5-42D1-91C8-D15B99E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DA64E-AFC7-4BC0-9588-5DA8DEB4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87F81-322F-4542-896E-B3137A2D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B3A63-B1FB-4527-894E-6360B21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F09AFB-6895-4CA3-9BFC-9562857F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2DF4-1C6F-4070-AD56-6523B24F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C7CC0-9A2D-410A-B9BB-9EBADA97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4F4C9-6B59-46EB-9357-05AA651E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C4A7F-382E-4EA9-A9A3-F93EF4A7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65333-3D79-469A-83DD-8BF3DE22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51DF-6E9E-4B90-8899-057A335B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B935-A0FE-4947-A301-121A6267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6D41B-7FBF-424C-9DFB-8011065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13E-5D1B-440E-8A6D-401C4E01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D797-6EBC-479C-8F83-CB0E2F4B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13C8-AC48-4804-B83E-332CD5C6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3A6E-0003-4B7A-B615-F16C6BE3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E9CF-9EF6-4BD9-A4CE-FF4882B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5CD87-87EF-4F55-A47F-8E3A9DFE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56A8-D0EF-4AE9-9361-BF9C88F6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3FA8-7125-4876-BFC4-7F46B1DC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0C52-C181-499F-AEA5-F7457205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FEB9-CBE8-4ED8-9C47-748399B2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E805-4E68-4F58-AFD1-002910B2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54B-C929-42AD-AD62-F05C2A3C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A9E7-D47F-4494-B18C-5A40BD0A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DA51-508A-4319-833D-0D86BA8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AB1C-6961-4004-A658-E1CE8B49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6ACD-6079-4994-AD7A-C1F25F99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8647-0511-4959-ACE0-029144DE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544E-C16C-4825-988A-22E81059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5DA59-2CD0-4DE5-88FA-07FC79BF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8610-5259-4351-AE83-23D3DD54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AFAE-6487-4AC4-A0B3-C0971CEA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5C69-72DB-4EAC-9950-7EFA3C254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358-463D-4618-AD90-D7BE5995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4F6E-98EB-4090-A749-6DF407C5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E896-5670-4071-8F3D-E182721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7BDF-654D-4B93-9EB9-502F2230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E189-9B22-4614-A581-A5A5632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6872F-99C9-41D8-A447-07C0B075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C7EC9-23F3-45A5-AB87-64FC1B19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ACA4-CA21-445C-A44D-ED4987DF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BF53-6B21-4848-9CDD-0737BC7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9C73-7683-4B49-8988-AD93561B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EACB-090B-40CF-AF06-9927DCD9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D54-EBED-47DE-8D5F-33997256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BF4E-2EC0-4C3F-B954-D5F056EE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86C3-1B8D-4F8F-AA7F-3A314212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C025-5332-49A2-87FD-8076B410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7332-EFC6-4556-B576-CA8D9887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8BA5-388F-47B1-AB15-F7D61818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A097-3393-45A5-8BDD-C39AEBF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AB44-1052-4D6A-92A5-F250AF2E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9C9D9-74DE-4441-8299-0B4D2A8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293DE-3C56-4E9A-9535-EAF2CED5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B189-808E-41A7-AEC2-99C8B387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561-E4D2-41FF-BA0C-3D54F33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C64D-D3E2-4A47-8FAE-2FEED5F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02DC-4B8A-41A5-B52B-5BA1C4A4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ACCF-174F-43D6-8962-CA2B822C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31F71-CCE7-4177-8E85-5D84AADB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1946-3396-47E6-BD1A-755EEBB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C8C6-BD20-476A-93C9-484B03B5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1B4DE-4775-4322-B092-FE1A2C56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0959-166C-42FC-881A-D87E1912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875F6-828B-46C5-8350-2A398A5B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DB91-C0B3-4CF2-99A1-5041EEFF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F19-1A3F-48E0-89BF-C308FBF3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D916-B555-418F-9E9E-52B3B3DD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9130F-AFBC-42AD-9A79-6B9177E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A9454-AFEE-40BD-9FC5-E685E18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EDE77-3F45-42E0-9DDA-18B243D9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F8C19-829F-4BB4-AEB2-705542A7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AB314-89BC-4208-90FF-B1293781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649F-1FF0-4DC1-9865-B3B8A8AF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B4AF-5753-49EA-B604-3A46E8EB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3ECE7-E4DA-4740-AF49-C250833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014DE-5FA4-48EF-ACCF-C0947A56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BCD-4EAF-4170-97D2-A158954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6948E-9E12-4C9F-A7D3-EB3F97B7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B828-876C-4CC6-9BDB-0465033E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A1431-8E12-4778-9215-88BD4B5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75E83-34FB-4DDF-90EC-D7062ECC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9F52-1A7F-44E0-8C5D-6CC9C0DB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DE2E-B12F-4CD1-B90D-50202312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90AC-EE6C-4EDA-BE7B-D7A7A3BE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10329-1314-4DD6-887C-4B5EAC8B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1C6C4-97A9-41E9-B1AC-D04D6C5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32196-F1BD-4D36-86DA-E05D145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4B55-29C8-4195-99D9-A93747491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FBEE-4B04-4B2A-A0A7-CDED5DC35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51AD-356F-4F72-B5C0-D7FC2A459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E2F-C269-4069-B66B-4347C0D236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4FB-AFE6-48AA-B42B-FE3D64E2F2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74AA-1F61-45A6-8836-3F761A3674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F861-1373-4B96-9461-944634C10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D08B-DFD7-4821-83CE-4104626510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9667-5440-4FB0-87E9-FC4AF489A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5C9C-5016-4D62-B14F-15C35FDA9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5EB2-826A-41BF-A996-5BA10F01D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E2B-4D23-4CFC-90B2-62C13A07E8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C28E-B747-4C45-9CD3-AF0B894D92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1207-5015-405B-BDC5-18DC08392B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9F7A-2502-4F3E-B578-38FE2D07F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BF8B-E2E7-44CF-BCFB-E0EA6A3235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FA4-3DF8-4458-8512-D4B9F76761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4273-915F-4201-BC88-A32E6CE30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F39-A28F-4825-B825-FF083FD36E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BC3C-64CC-4F7D-824B-23FED254B7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B830-17D2-4426-9C45-1EB734A8E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FF0-83BD-454A-8D37-BE29709514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07D0-2CAA-416A-B6B2-61878CFD4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FD5-8EE1-44F8-964B-D4911FEF4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8DE-55DC-486A-821F-91A9F7C757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A9D-BA80-428B-81B1-FC41A4851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1CC-EE80-4AE1-B94B-B0705F12F3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CE1-631F-4201-B124-05E5418E0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7DC3-A45D-4AB1-9586-D9E12F8ED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7ADE-FAA7-4259-9859-87C4D24BD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58B5-3288-45CB-BD9D-5D7B24787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358-0855-4EE7-835D-4BE1BAE63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B23-54D7-4D5C-A522-A09692161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DC7B-F8F6-461A-BFAA-B58E9241B9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D7E-A864-4C2F-B857-29A3381FD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38A2-EB9A-4A7A-BCCF-3D66102AB6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4305-9B40-4DA0-A0D9-F3B03151F7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2E36-006E-4AC9-BBC5-A9E05D20F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347-DA5A-4A86-BEA5-CBD56B6DE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3848-1B63-474B-906D-DB79937F7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152360" y="2739960"/>
            <a:ext cx="6839280" cy="6098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814480" y="4029120"/>
            <a:ext cx="3515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28600" y="773280"/>
            <a:ext cx="8686800" cy="60084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098" descr=""/>
          <p:cNvPicPr/>
          <p:nvPr/>
        </p:nvPicPr>
        <p:blipFill>
          <a:blip r:embed="rId2"/>
          <a:stretch/>
        </p:blipFill>
        <p:spPr>
          <a:xfrm>
            <a:off x="1100160" y="4005360"/>
            <a:ext cx="1816200" cy="5587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099" descr=""/>
          <p:cNvPicPr/>
          <p:nvPr/>
        </p:nvPicPr>
        <p:blipFill>
          <a:blip r:embed="rId3"/>
          <a:stretch/>
        </p:blipFill>
        <p:spPr>
          <a:xfrm>
            <a:off x="4095720" y="4019400"/>
            <a:ext cx="1816200" cy="55908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0" descr=""/>
          <p:cNvPicPr/>
          <p:nvPr/>
        </p:nvPicPr>
        <p:blipFill>
          <a:blip r:embed="rId4"/>
          <a:stretch/>
        </p:blipFill>
        <p:spPr>
          <a:xfrm>
            <a:off x="7062840" y="4005360"/>
            <a:ext cx="1816200" cy="55872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1" descr=""/>
          <p:cNvPicPr/>
          <p:nvPr/>
        </p:nvPicPr>
        <p:blipFill>
          <a:blip r:embed="rId5"/>
          <a:stretch/>
        </p:blipFill>
        <p:spPr>
          <a:xfrm>
            <a:off x="1100160" y="6135840"/>
            <a:ext cx="1816200" cy="55872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4102" descr=""/>
          <p:cNvPicPr/>
          <p:nvPr/>
        </p:nvPicPr>
        <p:blipFill>
          <a:blip r:embed="rId6"/>
          <a:stretch/>
        </p:blipFill>
        <p:spPr>
          <a:xfrm>
            <a:off x="4081320" y="6149880"/>
            <a:ext cx="30830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14480" y="857160"/>
            <a:ext cx="8915400" cy="5143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1600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116000" y="48117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71280" y="861840"/>
            <a:ext cx="8999640" cy="5134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619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3:0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